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1FC3-DF3F-4041-A60B-9E5F85970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2381-3A0D-475C-B34A-B5F40DD0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2799-5D16-4C61-B38A-C51D1C635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65A7-B75C-4C93-B878-B198BA826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0482-E2BF-4C01-8ECC-D4016F68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6BED-E685-482B-8C1D-8D912016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266F-AC56-4AC2-B7A9-33EB4A59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45B9-1B91-4FD4-A73F-7D005109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730A-C7EC-4B84-B0E9-DCF66ADC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E1A9-E9A1-4032-8C9A-1E131153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E050-0D00-4B62-A696-0C9D558D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D6FB-179F-47E0-8776-BD7EA3BE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09E9-4030-4825-AF71-27F2F5F61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Устный счёт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 txBox="1"/>
          <p:nvPr/>
        </p:nvSpPr>
        <p:spPr>
          <a:xfrm>
            <a:off x="5562720" y="4800600"/>
            <a:ext cx="20574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 txBox="1"/>
          <p:nvPr/>
        </p:nvSpPr>
        <p:spPr>
          <a:xfrm>
            <a:off x="601992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47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49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53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55" name=""/>
          <p:cNvSpPr txBox="1"/>
          <p:nvPr/>
        </p:nvSpPr>
        <p:spPr>
          <a:xfrm>
            <a:off x="5638680" y="4800600"/>
            <a:ext cx="20574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2:33:56Z</dcterms:created>
  <dc:creator>Шаповаловы</dc:creator>
  <dc:description/>
  <dc:language>en-US</dc:language>
  <cp:lastModifiedBy>ник</cp:lastModifiedBy>
  <dcterms:modified xsi:type="dcterms:W3CDTF">2011-11-21T12:50:4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